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2341"/>
        <c:axId val="82962453"/>
      </c:barChart>
      <c:catAx>
        <c:axId val="9292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62453"/>
        <c:crosses val="autoZero"/>
        <c:auto val="1"/>
        <c:lblAlgn val="ctr"/>
        <c:lblOffset val="100"/>
        <c:noMultiLvlLbl val="0"/>
      </c:catAx>
      <c:valAx>
        <c:axId val="82962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2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A79-5EF9-4FFD-B682-883A41EB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BA7-6B64-407B-87D9-C91C12D0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0C6-4D8F-4B23-A7C1-C1D9A18F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A16-7239-4F57-8FB2-01C559F4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460-0286-47C1-A3C2-9373876C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D16-5B8D-4F82-8CDF-EDE99878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C25-A9AD-46B0-8020-D941F1D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8FD-29BC-459D-8C4B-F93DD0F3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BDE-00FD-4702-8E26-A92F6A6C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60C-2A21-4D92-B60B-650B0BA6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2FA-9841-4CA9-8D48-A22B2917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3EB-2CD8-45C7-93E6-12700BA7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C2034-5B42-4ED6-B41D-AB0576C635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